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55F7-0441-4F8E-AF08-941593570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1715-C27F-4FD6-8239-1B5171D0A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0423-F7D0-4F57-BCD2-9AB250758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470B-53AE-4F52-B642-9C95632BA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9C8A-8F3A-4867-96D9-5C940734B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F6F8-A8AF-424C-94AA-1D720BA1E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4E87-CB44-42F3-AD8B-AF7347A5D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0A23-31F5-4F28-8A46-36729547C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56CE-E4B6-49E9-8859-EEA7EA8E3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B100-9082-436F-B67D-F0F31811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3F68-8523-4C5C-BD18-F1B50B721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7E07-3D4C-4C87-9987-96CF0D8E1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84538-6327-4C6B-B195-F0C9F59BE834}" type="slidenum">
              <a:rPr b="0" lang="en-C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e3ebf1"/>
                </a:solidFill>
                <a:latin typeface="Arial"/>
              </a:rPr>
              <a:t>Causes of WW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755640" y="-27000"/>
            <a:ext cx="7380360" cy="68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6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CA" sz="4400" spc="-1" strike="noStrike">
                <a:solidFill>
                  <a:srgbClr val="e3ebf1"/>
                </a:solidFill>
                <a:latin typeface="Arial"/>
              </a:rPr>
              <a:t>ssassina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spark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that started WW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On June 28, 1914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chduke Franz Ferdinand, heir to the Austria Hungarian Throne was assassinated by Gavrilo Princip, a Serbian nationalist who believed that Bosnia should belong to Serb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528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3ebf1"/>
                </a:solidFill>
                <a:latin typeface="Arial"/>
              </a:rPr>
              <a:t>Archduke Franz Ferdinand and Duchess Sophie at Sarajevo, Bosnia, on June 28, 1914</a:t>
            </a:r>
            <a:endParaRPr b="0" lang="en-US" sz="28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1"/>
          <a:stretch/>
        </p:blipFill>
        <p:spPr>
          <a:xfrm>
            <a:off x="1403280" y="38160"/>
            <a:ext cx="6480360" cy="57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Gavrilo Princip after his assassination of Austrian Archduke Franz Ferdin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11" descr="Assassination-Princips Caught"/>
          <p:cNvPicPr/>
          <p:nvPr/>
        </p:nvPicPr>
        <p:blipFill>
          <a:blip r:embed="rId1"/>
          <a:srcRect l="4385" t="4107" r="2444" b="10959"/>
          <a:stretch/>
        </p:blipFill>
        <p:spPr>
          <a:xfrm>
            <a:off x="312840" y="404640"/>
            <a:ext cx="4114800" cy="3292560"/>
          </a:xfrm>
          <a:prstGeom prst="rect">
            <a:avLst/>
          </a:prstGeom>
          <a:ln w="9360">
            <a:solidFill>
              <a:srgbClr val="664400"/>
            </a:solidFill>
            <a:miter/>
          </a:ln>
        </p:spPr>
      </p:pic>
      <p:pic>
        <p:nvPicPr>
          <p:cNvPr id="83" name="Picture 13" descr="Gavrilo Princip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5335560" y="3809880"/>
            <a:ext cx="3124080" cy="3048120"/>
          </a:xfrm>
          <a:prstGeom prst="rect">
            <a:avLst/>
          </a:prstGeom>
          <a:ln w="9360">
            <a:solidFill>
              <a:srgbClr val="664400"/>
            </a:solidFill>
            <a:miter/>
          </a:ln>
        </p:spPr>
      </p:pic>
      <p:sp>
        <p:nvSpPr>
          <p:cNvPr id="84" name="Line 14"/>
          <p:cNvSpPr/>
          <p:nvPr/>
        </p:nvSpPr>
        <p:spPr>
          <a:xfrm>
            <a:off x="3780000" y="1628640"/>
            <a:ext cx="2304720" cy="2952720"/>
          </a:xfrm>
          <a:prstGeom prst="line">
            <a:avLst/>
          </a:prstGeom>
          <a:ln cap="sq" w="57240">
            <a:solidFill>
              <a:srgbClr val="e61f0a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/>
          <p:cNvPicPr/>
          <p:nvPr/>
        </p:nvPicPr>
        <p:blipFill>
          <a:blip r:embed="rId1"/>
          <a:srcRect l="0" t="20472" r="0" b="24662"/>
          <a:stretch/>
        </p:blipFill>
        <p:spPr>
          <a:xfrm>
            <a:off x="0" y="387360"/>
            <a:ext cx="9144000" cy="6066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"/>
          <p:cNvPicPr/>
          <p:nvPr/>
        </p:nvPicPr>
        <p:blipFill>
          <a:blip r:embed="rId2"/>
          <a:srcRect l="11240" t="0" r="17111" b="0"/>
          <a:stretch/>
        </p:blipFill>
        <p:spPr>
          <a:xfrm>
            <a:off x="3527280" y="2004840"/>
            <a:ext cx="613080" cy="919440"/>
          </a:xfrm>
          <a:prstGeom prst="rect">
            <a:avLst/>
          </a:prstGeom>
          <a:ln w="0">
            <a:noFill/>
          </a:ln>
        </p:spPr>
      </p:pic>
      <p:sp>
        <p:nvSpPr>
          <p:cNvPr id="87" name="Line 6"/>
          <p:cNvSpPr/>
          <p:nvPr/>
        </p:nvSpPr>
        <p:spPr>
          <a:xfrm>
            <a:off x="3851280" y="2924280"/>
            <a:ext cx="990720" cy="26668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3.98844E-006 L 0.10816 0.42151 E">
                                      <p:cBhvr>
                                        <p:cTn id="100" dur="3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"/>
          <p:cNvPicPr/>
          <p:nvPr/>
        </p:nvPicPr>
        <p:blipFill>
          <a:blip r:embed="rId1"/>
          <a:srcRect l="13399" t="8394" r="12981" b="17930"/>
          <a:stretch/>
        </p:blipFill>
        <p:spPr>
          <a:xfrm>
            <a:off x="-36360" y="-27000"/>
            <a:ext cx="9180360" cy="6886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2"/>
          <a:srcRect l="11240" t="0" r="17111" b="0"/>
          <a:stretch/>
        </p:blipFill>
        <p:spPr>
          <a:xfrm>
            <a:off x="3708360" y="2421000"/>
            <a:ext cx="612720" cy="919080"/>
          </a:xfrm>
          <a:prstGeom prst="rect">
            <a:avLst/>
          </a:prstGeom>
          <a:ln w="0">
            <a:noFill/>
          </a:ln>
        </p:spPr>
      </p:pic>
      <p:sp>
        <p:nvSpPr>
          <p:cNvPr id="90" name="Line 7"/>
          <p:cNvSpPr/>
          <p:nvPr/>
        </p:nvSpPr>
        <p:spPr>
          <a:xfrm>
            <a:off x="4284720" y="3357720"/>
            <a:ext cx="485640" cy="7920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3.98844E-006 L 0.10816 0.42151 E">
                                      <p:cBhvr>
                                        <p:cTn id="114" dur="3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e3ebf1"/>
                </a:solidFill>
                <a:latin typeface="Arial"/>
              </a:rPr>
              <a:t>The Point of No Retur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stria blamed Serbia for Ferdinand’s death and declared war on Serb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rmany pledged their support for Austria -Hunga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ssia pledged their support for Serbia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4284720" y="270828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5"/>
          <p:cNvSpPr/>
          <p:nvPr/>
        </p:nvSpPr>
        <p:spPr>
          <a:xfrm>
            <a:off x="4284720" y="411948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6"/>
          <p:cNvSpPr/>
          <p:nvPr/>
        </p:nvSpPr>
        <p:spPr>
          <a:xfrm>
            <a:off x="4267080" y="555948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6840" y="404280"/>
            <a:ext cx="821844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Germany declares war on Russ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France pledges their support for Russ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Germany declares war on Fr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Germany invades Belgium on the way to Fr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Great Britain supports Belgium and declares war on Germa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4"/>
          <p:cNvSpPr/>
          <p:nvPr/>
        </p:nvSpPr>
        <p:spPr>
          <a:xfrm>
            <a:off x="4267080" y="95076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5"/>
          <p:cNvSpPr/>
          <p:nvPr/>
        </p:nvSpPr>
        <p:spPr>
          <a:xfrm>
            <a:off x="4267080" y="198900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4267080" y="306864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7"/>
          <p:cNvSpPr/>
          <p:nvPr/>
        </p:nvSpPr>
        <p:spPr>
          <a:xfrm>
            <a:off x="4267080" y="4408560"/>
            <a:ext cx="304920" cy="533160"/>
          </a:xfrm>
          <a:prstGeom prst="downArrow">
            <a:avLst>
              <a:gd name="adj1" fmla="val 50000"/>
              <a:gd name="adj2" fmla="val 43713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WI Allianc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Great Brit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Fr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Rus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U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nt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rma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stria Hung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toman Em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e3ebf1"/>
                </a:solidFill>
                <a:latin typeface="Arial"/>
              </a:rPr>
              <a:t>Sourc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http://www.thecorner.org/hist/wwi/colonial.ht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ffffff"/>
                </a:solidFill>
                <a:uFillTx/>
                <a:latin typeface="Arial"/>
              </a:rPr>
              <a:t>http://www.mrberlin.com/8th/WWI/World_War_I_causes.ppt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ffffff"/>
                </a:solidFill>
                <a:uFillTx/>
                <a:latin typeface="Arial"/>
              </a:rPr>
              <a:t>http://www.msroachesplace.com/causes1.ppt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e3ebf1"/>
                </a:solidFill>
                <a:latin typeface="Arial"/>
              </a:rPr>
              <a:t>Causes of WWI - </a:t>
            </a:r>
            <a:r>
              <a:rPr b="1" lang="en-CA" sz="4400" spc="-1" strike="noStrike">
                <a:solidFill>
                  <a:srgbClr val="ffff00"/>
                </a:solidFill>
                <a:latin typeface="Arial"/>
              </a:rPr>
              <a:t>MANIA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8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ilitar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llia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8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ational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8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mperial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ssassin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6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CA" sz="4400" spc="-1" strike="noStrike">
                <a:solidFill>
                  <a:srgbClr val="e3ebf1"/>
                </a:solidFill>
                <a:latin typeface="Arial"/>
              </a:rPr>
              <a:t>ilitarism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When a nation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s armed forces come to dominate a country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s national poli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It is also a glorification of the military and war itsel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24000" y="3500280"/>
          <a:ext cx="8362800" cy="3273480"/>
        </p:xfrm>
        <a:graphic>
          <a:graphicData uri="http://schemas.openxmlformats.org/drawingml/2006/table">
            <a:tbl>
              <a:tblPr/>
              <a:tblGrid>
                <a:gridCol w="2508120"/>
                <a:gridCol w="5854680"/>
              </a:tblGrid>
              <a:tr h="102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1910-1914 Increase in Defense Expenditur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Fran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Britai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13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Russi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3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German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73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6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CA" sz="4400" spc="-1" strike="noStrike">
                <a:solidFill>
                  <a:srgbClr val="e3ebf1"/>
                </a:solidFill>
                <a:latin typeface="Arial"/>
              </a:rPr>
              <a:t>llianc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Signed treaties in which each nation involved pledges to defend the other if attacked by an aggress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Basically, countries agreed to help each o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"/>
          <p:cNvPicPr/>
          <p:nvPr/>
        </p:nvPicPr>
        <p:blipFill>
          <a:blip r:embed="rId1"/>
          <a:srcRect l="13399" t="8394" r="12981" b="17930"/>
          <a:stretch/>
        </p:blipFill>
        <p:spPr>
          <a:xfrm>
            <a:off x="-36360" y="-27000"/>
            <a:ext cx="9180360" cy="68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6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CA" sz="4400" spc="-1" strike="noStrike">
                <a:solidFill>
                  <a:srgbClr val="e3ebf1"/>
                </a:solidFill>
                <a:latin typeface="Arial"/>
              </a:rPr>
              <a:t>lliances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1" name="Picture 4" descr="france_large"/>
          <p:cNvPicPr/>
          <p:nvPr/>
        </p:nvPicPr>
        <p:blipFill>
          <a:blip r:embed="rId1"/>
          <a:stretch/>
        </p:blipFill>
        <p:spPr>
          <a:xfrm>
            <a:off x="1081080" y="3774960"/>
            <a:ext cx="1981080" cy="1320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russia_large"/>
          <p:cNvPicPr/>
          <p:nvPr/>
        </p:nvPicPr>
        <p:blipFill>
          <a:blip r:embed="rId2"/>
          <a:stretch/>
        </p:blipFill>
        <p:spPr>
          <a:xfrm>
            <a:off x="1081080" y="5527800"/>
            <a:ext cx="1981080" cy="1320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unitedkingdom_medium"/>
          <p:cNvPicPr/>
          <p:nvPr/>
        </p:nvPicPr>
        <p:blipFill>
          <a:blip r:embed="rId3"/>
          <a:stretch/>
        </p:blipFill>
        <p:spPr>
          <a:xfrm>
            <a:off x="1081080" y="1870200"/>
            <a:ext cx="1981080" cy="1295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arms"/>
          <p:cNvPicPr/>
          <p:nvPr/>
        </p:nvPicPr>
        <p:blipFill>
          <a:blip r:embed="rId4"/>
          <a:srcRect l="1617" t="0" r="1617" b="0"/>
          <a:stretch/>
        </p:blipFill>
        <p:spPr>
          <a:xfrm>
            <a:off x="6110280" y="3699000"/>
            <a:ext cx="1981080" cy="1357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germany_noeagle_medium"/>
          <p:cNvPicPr/>
          <p:nvPr/>
        </p:nvPicPr>
        <p:blipFill>
          <a:blip r:embed="rId5"/>
          <a:stretch/>
        </p:blipFill>
        <p:spPr>
          <a:xfrm>
            <a:off x="6110280" y="1946160"/>
            <a:ext cx="1981080" cy="1295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ITAL001"/>
          <p:cNvPicPr/>
          <p:nvPr/>
        </p:nvPicPr>
        <p:blipFill>
          <a:blip r:embed="rId6"/>
          <a:srcRect l="2756" t="4132" r="2756" b="5313"/>
          <a:stretch/>
        </p:blipFill>
        <p:spPr>
          <a:xfrm>
            <a:off x="6110280" y="5527800"/>
            <a:ext cx="1981080" cy="1295280"/>
          </a:xfrm>
          <a:prstGeom prst="rect">
            <a:avLst/>
          </a:prstGeom>
          <a:ln w="0">
            <a:noFill/>
          </a:ln>
        </p:spPr>
      </p:pic>
      <p:sp>
        <p:nvSpPr>
          <p:cNvPr id="57" name="Line 10"/>
          <p:cNvSpPr/>
          <p:nvPr/>
        </p:nvSpPr>
        <p:spPr>
          <a:xfrm>
            <a:off x="3367080" y="4384800"/>
            <a:ext cx="304920" cy="0"/>
          </a:xfrm>
          <a:prstGeom prst="line">
            <a:avLst/>
          </a:prstGeom>
          <a:ln cap="sq" w="38160">
            <a:solidFill>
              <a:srgbClr val="e61f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Line 11"/>
          <p:cNvSpPr/>
          <p:nvPr/>
        </p:nvSpPr>
        <p:spPr>
          <a:xfrm>
            <a:off x="5805360" y="2479680"/>
            <a:ext cx="0" cy="3657600"/>
          </a:xfrm>
          <a:prstGeom prst="line">
            <a:avLst/>
          </a:prstGeom>
          <a:ln cap="sq" w="38160">
            <a:solidFill>
              <a:srgbClr val="f0e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Line 12"/>
          <p:cNvSpPr/>
          <p:nvPr/>
        </p:nvSpPr>
        <p:spPr>
          <a:xfrm flipH="1">
            <a:off x="5500800" y="4384800"/>
            <a:ext cx="304560" cy="0"/>
          </a:xfrm>
          <a:prstGeom prst="line">
            <a:avLst/>
          </a:prstGeom>
          <a:ln cap="sq" w="38160">
            <a:solidFill>
              <a:srgbClr val="f0e5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13"/>
          <p:cNvSpPr/>
          <p:nvPr/>
        </p:nvSpPr>
        <p:spPr>
          <a:xfrm>
            <a:off x="3824280" y="3317760"/>
            <a:ext cx="1600200" cy="1981440"/>
          </a:xfrm>
          <a:prstGeom prst="irregularSeal1">
            <a:avLst/>
          </a:prstGeom>
          <a:gradFill rotWithShape="0">
            <a:gsLst>
              <a:gs pos="0">
                <a:srgbClr val="4d0808"/>
              </a:gs>
              <a:gs pos="100000">
                <a:srgbClr val="fff200"/>
              </a:gs>
            </a:gsLst>
            <a:lin ang="18900000"/>
          </a:gradFill>
          <a:ln cap="sq" w="12600">
            <a:solidFill>
              <a:srgbClr val="ffffff"/>
            </a:solidFill>
            <a:miter/>
          </a:ln>
          <a:effectLst>
            <a:outerShdw dist="92928" dir="4386564" blurRad="0" rotWithShape="0">
              <a:srgbClr val="9966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Line 14"/>
          <p:cNvSpPr/>
          <p:nvPr/>
        </p:nvSpPr>
        <p:spPr>
          <a:xfrm>
            <a:off x="3367080" y="2403360"/>
            <a:ext cx="0" cy="3657600"/>
          </a:xfrm>
          <a:prstGeom prst="line">
            <a:avLst/>
          </a:prstGeom>
          <a:ln cap="sq"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5958000" y="148896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Germa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5881680" y="50706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Ita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17"/>
          <p:cNvSpPr/>
          <p:nvPr/>
        </p:nvSpPr>
        <p:spPr>
          <a:xfrm>
            <a:off x="1004760" y="141300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Great Brit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18"/>
          <p:cNvSpPr/>
          <p:nvPr/>
        </p:nvSpPr>
        <p:spPr>
          <a:xfrm>
            <a:off x="852480" y="331776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Fr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19"/>
          <p:cNvSpPr/>
          <p:nvPr/>
        </p:nvSpPr>
        <p:spPr>
          <a:xfrm>
            <a:off x="1081080" y="50706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Rus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20"/>
          <p:cNvSpPr/>
          <p:nvPr/>
        </p:nvSpPr>
        <p:spPr>
          <a:xfrm>
            <a:off x="5724360" y="3241800"/>
            <a:ext cx="2819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Austria-Hung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21"/>
          <p:cNvSpPr/>
          <p:nvPr/>
        </p:nvSpPr>
        <p:spPr>
          <a:xfrm>
            <a:off x="584280" y="905040"/>
            <a:ext cx="3124080" cy="5814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66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33cc"/>
                </a:solidFill>
                <a:uFillTx/>
                <a:latin typeface="Arial Unicode MS"/>
              </a:rPr>
              <a:t>Triple Entente</a:t>
            </a:r>
            <a:r>
              <a:rPr b="0" lang="en-US" sz="3200" spc="-1" strike="noStrike">
                <a:solidFill>
                  <a:srgbClr val="ff33cc"/>
                </a:solidFill>
                <a:latin typeface="Arial Unicode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22"/>
          <p:cNvSpPr/>
          <p:nvPr/>
        </p:nvSpPr>
        <p:spPr>
          <a:xfrm>
            <a:off x="5578560" y="907920"/>
            <a:ext cx="3097080" cy="5814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66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99"/>
                </a:solidFill>
                <a:uFillTx/>
                <a:latin typeface="Arial Unicode MS"/>
              </a:rPr>
              <a:t>Triple Alliance</a:t>
            </a:r>
            <a:r>
              <a:rPr b="0" lang="en-US" sz="3200" spc="-1" strike="noStrike">
                <a:solidFill>
                  <a:srgbClr val="00cc99"/>
                </a:solidFill>
                <a:latin typeface="Arial Unicode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77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770" fill="hold"/>
                                        <p:tgtEl>
                                          <p:spTgt spid="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" dur="77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" dur="77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6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CA" sz="4400" spc="-1" strike="noStrike">
                <a:solidFill>
                  <a:srgbClr val="e3ebf1"/>
                </a:solidFill>
                <a:latin typeface="Arial"/>
              </a:rPr>
              <a:t>ationalism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Pride and patriotism in one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s 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In terms of WWI, nationalism became aggressive and subsequently (because of this) a major cause of international ten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Independent nations desired dominance and prestige and as these powers tried to dominate each other in Europ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Serious rivalry b/w France and Germany stemming from Franco-Prussian War (1871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France wanted Alsace-Lorraine back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60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CA" sz="4400" spc="-1" strike="noStrike">
                <a:solidFill>
                  <a:srgbClr val="e3ebf1"/>
                </a:solidFill>
                <a:latin typeface="Arial"/>
              </a:rPr>
              <a:t>mperialism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Domination by one country over the political, economic, or cultural life of another country or reg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Due to the Industrial Revolution of the 1800s, some European nations had a large portion of the world under their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e3ebf1"/>
                </a:solidFill>
                <a:latin typeface="Arial"/>
              </a:rPr>
              <a:t>Imperialism and Colonial Rivalries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After 1870, the European nations began to acquire colonies in Asia, Africa and the Pacifi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Colonial rivalry led 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strained relations among the European powers. In Africa, all the European powers except Austria and Russia had colonies there. Thus there were many clashes among France, Britain, Germany and Ital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the formation and strengthening of alliances and ententes. (indirectl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an intensification of the arms rac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much hostility among the power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31T16:12:59Z</dcterms:created>
  <dc:creator>L Templin</dc:creator>
  <dc:description/>
  <dc:language>en-US</dc:language>
  <cp:lastModifiedBy>temp</cp:lastModifiedBy>
  <dcterms:modified xsi:type="dcterms:W3CDTF">2014-02-10T13:59:42Z</dcterms:modified>
  <cp:revision>7</cp:revision>
  <dc:subject/>
  <dc:title>Causes of WWI</dc:title>
</cp:coreProperties>
</file>